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D4D-966D-46E7-8A90-7185261E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7B2-5176-496D-AB23-F94C035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276-AEBB-40FB-B5D9-65D80DDB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B75-EC04-4E71-A409-7B0F48E9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07BB7-3131-435F-AFB2-B9C21607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FE351-ADE4-4975-AC95-B1B505B8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6C2D3-6EC2-4B7F-BFA0-F6BF59B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CED1A-C0D9-4494-AC56-92E505C4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A04B1-DF82-4C06-B405-4996769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FFC09-3176-43AE-AD41-117D5AD2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EDCE3-C2C8-47B6-81D9-38244FA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A67-5778-40B7-A317-44000D8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01ACF-C2D7-40D0-B19E-8AAA32F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07289-F9C6-4D02-A341-82E1859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C256-2B87-49F4-A359-B9FF571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1697-DEA1-4E19-9BA7-8F6AEB2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4A8F5-A66F-4400-B902-588245AB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4CA-4999-4C40-B3A0-60ED5BB0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C6A-4FAB-47B1-8041-8050E01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9A7-1626-4198-AD6F-1DB4813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29E-2E62-4288-A7C5-7D5865A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66B-C6A3-4869-A451-6C966F5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101-63F8-4104-A3DE-0291C49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14F-E775-4D00-B19B-061D491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DE8E-63CA-426B-96BB-CE1AD83AD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A36-E885-455A-8C55-592769FB64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ths and Den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proved belief or invented 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1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USE PROVIDES EMOTIONAL PROTECTION FROM THE OUTSIDE WOR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2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S HELPS PEOPLE TO ESTABLISH FRIENDSHI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3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OPLE GET USED TO A DRU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YTH 4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UG USE SHOWS INDEPEND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ni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gnoring consequences that are obvious to oth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360" y="205740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ur Kinds of DENI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ame others, deny injury, deny effects on others, reinterpretation (change the st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interpret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ing negative consequences seem posi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3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6:27Z</dcterms:modified>
  <cp:revision>18</cp:revision>
  <dc:subject/>
  <dc:title>Project TND  (Project Towards No Drug Abuse)</dc:title>
</cp:coreProperties>
</file>